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A25F-ED45-4AA8-B499-94F2A129C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4CD8-1566-4DDB-B078-D6290665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C24E-FF14-443B-8BA3-15A3C9DB4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51E7-3A1C-4445-992F-3B1D18A8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A8CB-6971-46E0-8958-6168E2BF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05F4-BB0C-4809-9B33-9E80D51C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80F9-1E49-4A3D-8AD3-6D66320A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065C-5D25-4304-AD1F-539D4E4A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C806-35D4-4E65-9034-3A1D91B7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CB8B-A8C7-4703-8615-062751AE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4AF8-B9AD-424C-8BA7-094DD619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1499-F7AA-496F-BAC1-6ABAAF10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F808-4E37-419C-9DEC-5C238AAD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EA35-D305-467C-B509-8C2239B2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7BE8-8C0C-4FFF-B442-D14D3AA5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34AD-B1C9-4CBD-815D-E5A892C78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A406-6D0A-4850-A687-D4BB097DE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7691-D0FC-4398-9290-218E3B1E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F3B7-3606-42A6-AE39-C7435A4C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BBCB-D63E-4B08-9669-A8B88F27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C782-C34A-41EB-A3A0-0E8BBC5D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26A4-2654-4BF3-90CE-A7575EFC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D5E1-EBD0-442C-9EDC-A81AEE4D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4CC1-DA10-4DFD-A735-06C4E9D6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B936-B421-4B62-9D4A-3D47F81A8E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C11A-4BD0-4E81-8CE3-A51283B240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arm-Up Sentenc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ut 25 million Tennis balls is put into play every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od you believe that the traditional trade of those whom most often become spanish bullfighters are brickla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Journal #15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oliday I wish we had i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arm-Up Sentenc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ice did not float.  (this is called a hypothetical question) Tons of it at both the north pole and the south pole would sink, covering the earth with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ouston rockets won back to back championships.  In the National Basketball Association (nba) in 1994 and 199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Journal #16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533520" y="2437920"/>
            <a:ext cx="35812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 short story based on the pictu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724280" y="1676520"/>
            <a:ext cx="3516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Friday Warm-up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28600" y="13716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ffect/Effec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ffect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(verb) – to influe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) Your criticism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ffec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eople in a negative w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ffect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(noun) – the result of some a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) New Englanders have felt th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ff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ther Nature this win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3505320"/>
            <a:ext cx="8686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oose the proper word to make the sentence corr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 don’t think you realize how your comments (affect, effect) your frie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The (affects, effects) of the storm were disastrous along the Louisiana coa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That medicine did have an (affect, effect) on my headach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46:10Z</dcterms:created>
  <dc:creator>tpagel</dc:creator>
  <dc:description/>
  <dc:language>en-US</dc:language>
  <cp:lastModifiedBy>tpagel</cp:lastModifiedBy>
  <dcterms:modified xsi:type="dcterms:W3CDTF">2010-06-03T16:46:38Z</dcterms:modified>
  <cp:revision>1</cp:revision>
  <dc:subject/>
  <dc:title>Warm-Up Sentences</dc:title>
</cp:coreProperties>
</file>